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390-5CF0-4667-A3DC-A0731C55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9B4-6B62-46CB-B0D1-D52DA0E2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F57-B94A-40CA-B052-2EF9064C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E93-00E5-42AC-A498-E2B0A32B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C7B-CD4F-48C5-BC26-E88DDB05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A47-AF25-4C20-B57B-92454A58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FDB-D002-4582-9B17-7889859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64E-130D-4406-8E15-12C1B929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25B-D397-4B0A-BC8B-B0B7C035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135-C319-4A5A-810A-8367F68E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1DF-0B69-4413-807D-5022C720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01D-6F22-46C2-AC14-2BACBF2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847D-393D-41AA-885A-BF7F97680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What we learnt at DIT while implementing SWAN Scheme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n States/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Space for Setting up SWAN nodes in Districts and Talukas/ Blocks level off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Availability of space for Installation of the Last Mile equipment in the off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Ownership of the SWAN by Departments in Districts and Talukas/Bloc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Provision of Stabilized Uninterrupted Power Supp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Connecting horizontal offices wherever it is part of SWAN RF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dministrativ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DPR/RFP 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ormation of SWAN Committee with at lea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 or 2 Technical person (Network Expert, as suggested in the approv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SNL representative (to be ensu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dentification of PoP Locations ensuring possessions in reasonabl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easibility of the PoP with regards to conne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echnolog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inalization of Bill of Material (Vendor Neutrality, Open Standa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ite Preparation – Who does? What are the Terms &amp; Condi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Consultant as Technical Assistance provided in the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view of the technology/ architecture/ specifications suggested by the Consul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onitoring the work of consultant as per the Proposed timeli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Quality of deliverables and the Service Level Agreement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Bid Process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idder response - to be defined cle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Vendor  interactions - to be minimal and uni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echnical team composed for bid evaluation - to have clarity over the requirements of the project and Terms &amp; Conditions defined in R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Evaluation criteria's &amp; “Marking Schema” - to be as objective as possible and to be documented properly before starting of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Network Operator (after Lo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itial Mobilization of resources to meet the commitment (to be ensu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eployment of adequate qualified resources as per the commitment (to be ensu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dherence to the Service Level Agreement during the implementation &amp; operation and proposed tim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Implementation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ossession  of the Sites (almost always delay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SNL connectivity – State/UT intervention almost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elivery of equipment on time to the respective lo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stallation of the equipment and Co-ordination with the State IT Department and BSNL for lease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reparation of IP Schema keeping State NIC in loo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y change in the Bill Of Material (BoM) to be scrutinized and approved very carefu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stallation of Power and separate meter (nothing happens if State/UT does not interve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Third Party Auditor (TP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elay in Identifying TPA although DIT sent the Empanelled list in April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lear Identification of Roles and Responsibility and function of T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eployment of adequate and qualified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PA report format finalization (has to be vetted by State/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ormat of TPA reporting – to be finalized in consultation with the State/ Consultant/ Network Oper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FAT of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stallation of all the equipment as per the B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ocumentation (to be post-facto audited by TPA agen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ventory Management (to be post-facto audited by TPA agen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spection of the 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ll equipment properly configured and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gular maintenance of equipment including physical &amp;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eriodic review of rules &amp; policy defined for SW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gular monitoring of bandwidth availability reports generated using SWAN NMS (to ensure CIR by the Bandwidth Service Provi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gular interaction with Bandwidth Service Provider (BSP) to ensure 100% up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dherence to security policy &amp; guidelines issued by Go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gular State/UT level SWAN Committee meeting (required for financial clearance from D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ocess-wise challenges learnt through the implementation of SW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4:51:01Z</dcterms:created>
  <dc:creator>-</dc:creator>
  <dc:description/>
  <dc:language>en-US</dc:language>
  <cp:lastModifiedBy>Saptarshi Sanyal</cp:lastModifiedBy>
  <dcterms:modified xsi:type="dcterms:W3CDTF">2014-03-10T06:40:58Z</dcterms:modified>
  <cp:revision>45</cp:revision>
  <dc:subject/>
  <dc:title>Slide 1</dc:title>
</cp:coreProperties>
</file>